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5ED-1653-4AA0-B8BB-23B5809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D83-390D-4090-86DE-D432919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DC9-6E17-48E4-BD52-23B4B0AC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2D5-E9F9-4100-9E61-C8E9734E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6E3-AE07-4351-BA6E-82E213A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5D9-5A20-42D6-9918-27F7E7E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CBC-006D-495C-9445-17C4081E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5882-644B-42D2-960B-2949B372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3DDA-5D1E-45DA-9CC5-3AFA8C3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48EC-064F-444A-9FAC-8255611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5EFC-A9A0-4CC2-B754-11B1531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165-A8C1-4CFC-B91D-18A0FCF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999-35BA-4B1C-8330-8E788DD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638D-ECC5-4D9C-8249-69C4B71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E864-1134-4FB7-8400-E74BA375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B22-B035-4C19-ACE2-8C685DEA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9BB-D91F-46DD-BC8E-8261618D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975-4516-46DA-BF56-8E325DC4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C51-2F13-4A53-A5D8-0B0FC3F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B17-E876-44D2-9108-080E128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130-0338-4EA4-8741-707248F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499-4B66-4B1F-84C0-1A62936E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3C7-7CD6-4AFF-B0FA-F5AAC17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728-45E6-42F4-86A5-BF9FFAD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409-21D5-4C59-9761-5C833998A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AED1-1C9F-4670-A523-0FC678766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РГАНИЗАЦИ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ОНЕ ПРОМЕНЕ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ратегија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763120" cy="51609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но (емпиричка)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тегија моћи и прин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о реедукативна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тоставке о љ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рацион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политичк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социј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 о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рационално оруђ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политичке ар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социјалн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. одлучи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.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 конст. реа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етач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оба с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т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. и запос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шће запосл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запос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ват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ш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ор промен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в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лика у стању посматране појаве (објекта) између временске та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је: менаџерска пракса, наставна дисциплина, научно-истраживачка област, домен консалт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се убраја у обавезне менаџерске компет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лога људи у променама: активна и паси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Људи чине промене у организацији, али их и до(пре)живљав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циљ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752480"/>
          <a:ext cx="8763120" cy="5042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А АДАПТАЦИЈА (ЕКС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И РАЗВОЈ (ИН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рха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ођавање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(иновирање)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перформа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, 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терни: промене у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и: креативност, 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менаџ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ивна, мал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а, велик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карактеру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уб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кременталне, пли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дикалне, дуб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Шир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цијалне, у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веобухватне, ши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Брз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волути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волу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адржа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1981080"/>
          <a:ext cx="7467840" cy="415620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667240"/>
              </a:tblGrid>
              <a:tr h="13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ЛНЕ, ТВРД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ОРМАЛНЕ, МЕК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3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Е ВАРИЈАБЛЕ: СИСТЕМИ И СТРУК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АЈН: Организациона структура,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АШАЊЕ: Култура, неформалне групе, струк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Е ВАРИЈАБЛЕ: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ЕРСОНАЛНИ ПРОЦЕСИ: групни процеси, вођство, конфликти, политички процеси, комун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осталим критеријум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етерминиса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он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тиципа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ак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једина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тилу вође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600200"/>
          <a:ext cx="8534520" cy="5029200"/>
        </p:xfrm>
        <a:graphic>
          <a:graphicData uri="http://schemas.openxmlformats.org/drawingml/2006/table">
            <a:tbl>
              <a:tblPr/>
              <a:tblGrid>
                <a:gridCol w="2362320"/>
                <a:gridCol w="3124080"/>
                <a:gridCol w="30481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ТИЦИПА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г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лид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зионар и пла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ор, мотиватор, фацили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ршио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ори и извршио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држа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и и формални: структура, системи, 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и и неформални: култура и интерперсонал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консулта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пе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цилит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и разв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ратешке промене организације или организациона транс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титуционална теориј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падање (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cline)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мањивањ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downsizing)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заокрет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turn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ивотни циклус орга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укупним квалитет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M – Total Quality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о у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еорије континуалних адаптивних про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кроз импров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у условима неизве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огички инкремента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орија популационе е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инжењеринг пословних процес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usiness Process Reengineering – B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0T22:30:48Z</dcterms:modified>
  <cp:revision>191</cp:revision>
  <dc:subject/>
  <dc:title>Soft and Hard Skills Development: A Current Situation in Serbian Companies</dc:title>
</cp:coreProperties>
</file>